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C8E-6B15-4AA3-AA29-AE7B8650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2E8-6FC4-47AE-B5B4-FCDC7290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F3F-353E-4C9C-8877-8BF985DB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7A3-66CE-4F70-9F0F-91BF6D85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A60-3BBF-4695-9D36-086EC116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1E66-69AD-457A-8534-78E84C2D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BAD-5DD0-415B-8D68-68A6CA0C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4233-4A5C-4198-B795-97010682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924-12C0-464F-909D-B371DDB7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128-2F51-4A8D-8020-2DE9373B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305-782B-4101-9AE2-A32A5EE8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E42-7339-48E1-8792-CF4CB942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9815-5387-49DD-8F12-6ED9E3273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 know about Aztecs, Mayas, and In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s for                                                              social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7037E-006 C -0.03958 -0.00764 -0.07882 -0.01319 -0.11858 -0.01898 C -0.14149 -0.01828 -0.17552 -0.02662 -0.19705 -0.00578 C -0.20521 0.01204 -0.20503 0.0257 -0.20712 0.04769 C -0.20764 0.05903 -0.20851 0.07061 -0.20851 0.08195 C -0.20851 0.12246 -0.20799 0.1632 -0.20712 0.20371 C -0.20694 0.21019 -0.19983 0.21922 -0.19566 0.22107 C -0.18819 0.22454 -0.18038 0.22593 -0.17274 0.22848 C -0.16788 0.2301 -0.16337 0.23264 -0.15851 0.23426 C -0.13472 0.23287 -0.11094 0.23403 -0.09132 0.21343 C -0.08385 0.20556 -0.07708 0.19699 -0.06997 0.18866 C -0.06215 0.1794 -0.05191 0.17454 -0.04288 0.1676 C -0.0401 0.16551 -0.03715 0.16366 -0.0342 0.16181 C -0.03142 0.15996 -0.02569 0.15625 -0.02569 0.15625 C -0.01892 0.14723 -0.00174 0.14213 0.00712 0.13704 C 0.01771 0.13102 0.02951 0.1301 0.0401 0.12385 C 0.04774 0.11945 0.05503 0.11389 0.06285 0.11042 C 0.0724 0.10047 0.07882 0.08936 0.0901 0.08195 C 0.09757 0.07709 0.1066 0.0757 0.11441 0.07246 C 0.12951 0.07894 0.13941 0.11065 0.14427 0.12963 C 0.16528 0.21181 0.17726 0.29167 0.19288 0.37523 C 0.19392 0.38959 0.19878 0.4125 0.19427 0.42662 C 0.19219 0.43334 0.18715 0.4375 0.18437 0.44375 C 0.18038 0.45278 0.17812 0.4632 0.17431 0.47246 C 0.17396 0.47338 0.16163 0.50278 0.15868 0.50486 C 0.15226 0.50949 0.14514 0.51181 0.13854 0.51621 C 0.12292 0.51482 0.10712 0.51459 0.09149 0.51227 C 0.08385 0.51111 0.08437 0.49422 0.08003 0.48565 C 0.0717 0.46898 0.06476 0.45209 0.05573 0.43611 C 0.05174 0.41968 0.04948 0.40371 0.04722 0.38658 C 0.04601 0.37778 0.04427 0.35996 0.04427 0.35996 C 0.04288 0.32431 0.03924 0.2882 0.04288 0.25324 C 0.03437 0.21852 0.02639 0.18334 0.01441 0.15047 C 0.01198 0.13565 0.01024 0.12385 0.01441 0.10857 C 0.01059 0.09514 0.00903 0.08218 0.00573 0.06852 C 0.00521 0.06158 0.00521 0.05463 0.00434 0.04769 C 0.00382 0.04375 0.00156 0.03611 0.00156 0.03611 C 0.0033 0.0088 0.00451 0.02061 2.77778E-007 -3.7037E-006 Z">
                                      <p:cBhvr>
                                        <p:cTn id="35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were polytheistic which means that they believed in many gods for example a sun god, death god, and sky g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lso believed in human sacrifice so they sacrificed many people from other tri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lived in the valley of Mexico in the capital of Tenochitlan in the middle of a lake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733560" cy="394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41200" y="63237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tion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cas were also polytheistic which means they believed in many g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cas had no written language but used knots as me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though they practiced animal sacrifice on special occasions they sacrificed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cas lived in South America in the Andes mountains in Peru and their capital Cuz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86040" cy="4657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5960" y="624780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sites.juniata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60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yas live on the Mexican coast in the Yucatan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much harder for the conquistadors to overthrow because it wasn’t just one major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so used slaves but who could sometimes gain their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1676520"/>
            <a:ext cx="4228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z was a pale skinned bearded Spanish conquistador who the Aztecs thought was their god Quetzalcoatl  who promised he would return one 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aveled with 500 men and 16 horses from Cuba to the coast of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native tribes helped him destroy the Aztecs because since the Aztecs sacrificed thei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z tricked the Aztecs by pretending to be one of their god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zarro was a Spanish explorer and conquis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zarro traveled with 180 men and 27 hor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ame to Peru to conquer the Inca civ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came and conquered the Incas very easily because at the time they were fighting a civil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kidnapped Atahualpa the king and held him for ransom they demanded that a room be full of gold and silver then he would be released but instead they executed h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44167 0.07222 L -0.025 -0.07778 E">
                                      <p:cBhvr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0574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quistadors changed central and south America because they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ztecs and Incas they forced them to join Christianity. Also a lot of Aztec, Inc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aya traditions and cultures have been lost forever and the majority of cent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America now speak Spanish. The conquistadors Cortez and Pizarro have destroyed the Inca and Aztec civilizations and now they are gone for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98560" y="217440"/>
            <a:ext cx="69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Cortez and Pizarro change central and South America fore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47:20Z</dcterms:created>
  <dc:creator>jklib</dc:creator>
  <dc:description/>
  <dc:language>en-US</dc:language>
  <cp:lastModifiedBy>jklib</cp:lastModifiedBy>
  <dcterms:modified xsi:type="dcterms:W3CDTF">2011-11-21T16:09:47Z</dcterms:modified>
  <cp:revision>5</cp:revision>
  <dc:subject/>
  <dc:title>What we know about Aztecs ,Mayas ,Incas</dc:title>
</cp:coreProperties>
</file>